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3376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66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024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4"/>
          </p:nvPr>
        </p:nvSpPr>
        <p:spPr>
          <a:xfrm>
            <a:off x="4276800" y="0"/>
            <a:ext cx="327024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10155240"/>
            <a:ext cx="327024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276800" y="10155240"/>
            <a:ext cx="327024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CA5F8-5E18-408A-B0AD-AFF4FD045F72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37000" cy="4003560"/>
          </a:xfrm>
          <a:prstGeom prst="rect">
            <a:avLst/>
          </a:prstGeom>
          <a:ln w="0">
            <a:noFill/>
          </a:ln>
        </p:spPr>
      </p:sp>
      <p:sp>
        <p:nvSpPr>
          <p:cNvPr id="124" name=""/>
          <p:cNvSpPr/>
          <p:nvPr/>
        </p:nvSpPr>
        <p:spPr>
          <a:xfrm>
            <a:off x="755640" y="5078520"/>
            <a:ext cx="603900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37000" cy="4003560"/>
          </a:xfrm>
          <a:prstGeom prst="rect">
            <a:avLst/>
          </a:prstGeom>
          <a:ln w="0">
            <a:noFill/>
          </a:ln>
        </p:spPr>
      </p:sp>
      <p:sp>
        <p:nvSpPr>
          <p:cNvPr id="128" name=""/>
          <p:cNvSpPr/>
          <p:nvPr/>
        </p:nvSpPr>
        <p:spPr>
          <a:xfrm>
            <a:off x="755640" y="5078520"/>
            <a:ext cx="603900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37000" cy="4003560"/>
          </a:xfrm>
          <a:prstGeom prst="rect">
            <a:avLst/>
          </a:prstGeom>
          <a:ln w="0">
            <a:noFill/>
          </a:ln>
        </p:spPr>
      </p:sp>
      <p:sp>
        <p:nvSpPr>
          <p:cNvPr id="130" name=""/>
          <p:cNvSpPr/>
          <p:nvPr/>
        </p:nvSpPr>
        <p:spPr>
          <a:xfrm>
            <a:off x="755640" y="5078520"/>
            <a:ext cx="603900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63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20360" y="1767960"/>
            <a:ext cx="8847000" cy="209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20360" y="4067640"/>
            <a:ext cx="8847000" cy="209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63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66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0360" y="1767960"/>
            <a:ext cx="4317120" cy="209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53840" y="1767960"/>
            <a:ext cx="4317120" cy="209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20360" y="4067640"/>
            <a:ext cx="4317120" cy="209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53840" y="4067640"/>
            <a:ext cx="4317120" cy="209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63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20360" y="1767960"/>
            <a:ext cx="2848320" cy="209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11600" y="1767960"/>
            <a:ext cx="2848320" cy="209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02480" y="1767960"/>
            <a:ext cx="2848320" cy="209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20360" y="4067640"/>
            <a:ext cx="2848320" cy="209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11600" y="4067640"/>
            <a:ext cx="2848320" cy="209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702480" y="4067640"/>
            <a:ext cx="2848320" cy="209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77AB-1956-4EBB-B298-57734787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63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66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20360" y="1767960"/>
            <a:ext cx="8847000" cy="44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66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3C06-9A95-43EE-AED8-9D7A71A3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63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66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0360" y="1767960"/>
            <a:ext cx="8847000" cy="4402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7FBC-D39A-431A-A92E-FD7FF8E8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63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360" y="1767960"/>
            <a:ext cx="4317120" cy="4402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253840" y="1767960"/>
            <a:ext cx="4317120" cy="4402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3803-8031-415E-B3E9-7002C7E3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63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33A7-D5EC-4577-99FE-456338C6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02920" y="293760"/>
            <a:ext cx="90630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43A4-575F-4A9D-8CE3-A47F37B5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63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0360" y="1767960"/>
            <a:ext cx="4317120" cy="209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53840" y="1767960"/>
            <a:ext cx="4317120" cy="4402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20360" y="4067640"/>
            <a:ext cx="4317120" cy="209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C199-3572-4845-9C64-D7229F28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63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663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20360" y="1767960"/>
            <a:ext cx="8847000" cy="44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6633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63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0360" y="1767960"/>
            <a:ext cx="4317120" cy="4402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53840" y="1767960"/>
            <a:ext cx="4317120" cy="209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253840" y="4067640"/>
            <a:ext cx="4317120" cy="209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0F42-DA71-4B19-A5AB-04D30D2D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63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360" y="1767960"/>
            <a:ext cx="4317120" cy="209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53840" y="1767960"/>
            <a:ext cx="4317120" cy="209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20360" y="4067640"/>
            <a:ext cx="8847000" cy="209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D6C1-6896-46E1-9369-0C447FCA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63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0360" y="1767960"/>
            <a:ext cx="8847000" cy="209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20360" y="4067640"/>
            <a:ext cx="8847000" cy="209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7F5F-C9EC-4931-97A9-3B635EC0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63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0360" y="1767960"/>
            <a:ext cx="4317120" cy="209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53840" y="1767960"/>
            <a:ext cx="4317120" cy="209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20360" y="4067640"/>
            <a:ext cx="4317120" cy="209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253840" y="4067640"/>
            <a:ext cx="4317120" cy="209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C179-E17F-49CA-B3A6-495521E8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63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0360" y="1767960"/>
            <a:ext cx="2848320" cy="209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11600" y="1767960"/>
            <a:ext cx="2848320" cy="209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702480" y="1767960"/>
            <a:ext cx="2848320" cy="209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20360" y="4067640"/>
            <a:ext cx="2848320" cy="209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11600" y="4067640"/>
            <a:ext cx="2848320" cy="209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702480" y="4067640"/>
            <a:ext cx="2848320" cy="209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2C9F-C1BC-46D6-BE67-C4D956A5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63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66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20360" y="1767960"/>
            <a:ext cx="8847000" cy="4402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63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66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767960"/>
            <a:ext cx="4317120" cy="4402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53840" y="1767960"/>
            <a:ext cx="4317120" cy="4402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63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663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2920" y="293760"/>
            <a:ext cx="90630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6633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63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66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20360" y="1767960"/>
            <a:ext cx="4317120" cy="209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3840" y="1767960"/>
            <a:ext cx="4317120" cy="4402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20360" y="4067640"/>
            <a:ext cx="4317120" cy="209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63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66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20360" y="1767960"/>
            <a:ext cx="4317120" cy="4402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3840" y="1767960"/>
            <a:ext cx="4317120" cy="209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53840" y="4067640"/>
            <a:ext cx="4317120" cy="209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63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20360" y="1767960"/>
            <a:ext cx="4317120" cy="209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3840" y="1767960"/>
            <a:ext cx="4317120" cy="209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20360" y="4067640"/>
            <a:ext cx="8847000" cy="209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599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9880" y="2101320"/>
            <a:ext cx="841068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453960" cy="7559640"/>
          </a:xfrm>
          <a:custGeom>
            <a:avLst/>
            <a:gdLst>
              <a:gd name="textAreaLeft" fmla="*/ 360 w 453960"/>
              <a:gd name="textAreaRight" fmla="*/ 453600 w 4539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359429">
                <a:moveTo>
                  <a:pt x="75" y="0"/>
                </a:moveTo>
                <a:arcTo wR="75" hR="75" stAng="16200000" swAng="-5400000"/>
                <a:lnTo>
                  <a:pt x="0" y="359354"/>
                </a:lnTo>
                <a:arcTo wR="75" hR="75" stAng="10800000" swAng="-5400000"/>
                <a:lnTo>
                  <a:pt x="21525" y="359429"/>
                </a:lnTo>
                <a:arcTo wR="75" hR="75" stAng="5400000" swAng="-5400000"/>
                <a:lnTo>
                  <a:pt x="21600" y="75"/>
                </a:lnTo>
                <a:arcTo wR="75" hR="75" stAng="0" swAng="-5400000"/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63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66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20360" y="1767960"/>
            <a:ext cx="8847000" cy="4402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700b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700b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700b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700b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700b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700b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700b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539640" y="670716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482640" y="6707160"/>
            <a:ext cx="31878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7262640" y="670716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B41B8-0538-456D-96C2-76C12DAC51CB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39640" y="2101680"/>
            <a:ext cx="88092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343080" indent="-336600"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6633"/>
              </a:solidFill>
              <a:latin typeface="Times New Roman"/>
            </a:endParaRPr>
          </a:p>
          <a:p>
            <a:pPr marL="343080" indent="-336600"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6633"/>
              </a:solidFill>
              <a:latin typeface="Times New Roman"/>
            </a:endParaRPr>
          </a:p>
          <a:p>
            <a:pPr marL="343080" indent="-336600"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cc6633"/>
              </a:solidFill>
              <a:latin typeface="Times New Roman"/>
            </a:endParaRPr>
          </a:p>
          <a:p>
            <a:pPr marL="343080" indent="-336600"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cc6633"/>
              </a:solidFill>
              <a:latin typeface="Times New Roman"/>
            </a:endParaRPr>
          </a:p>
          <a:p>
            <a:pPr marL="343080" indent="-336600"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000" spc="-1" strike="noStrike">
                <a:solidFill>
                  <a:srgbClr val="cc6633"/>
                </a:solidFill>
                <a:latin typeface="Times New Roman"/>
              </a:rPr>
              <a:t>Tangram SURF a PC kasa v režime sociálnej výdajne</a:t>
            </a:r>
            <a:endParaRPr b="0" lang="en-US" sz="3000" spc="-1" strike="noStrike">
              <a:solidFill>
                <a:srgbClr val="cc6633"/>
              </a:solidFill>
              <a:latin typeface="Times New Roman"/>
            </a:endParaRPr>
          </a:p>
          <a:p>
            <a:pPr marL="343080" indent="-336600"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cc6633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38760" y="2519280"/>
            <a:ext cx="2360520" cy="1363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76440" y="6497640"/>
            <a:ext cx="2463480" cy="655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7728120" y="5608800"/>
            <a:ext cx="1911240" cy="1587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30120" y="1193760"/>
            <a:ext cx="95108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sk-SK" sz="2200" spc="-1" strike="noStrike">
                <a:solidFill>
                  <a:srgbClr val="4c1900"/>
                </a:solidFill>
                <a:latin typeface="Arial"/>
              </a:rPr>
              <a:t>Tangram SW, s.r.o., Chalupkova 14, 080 05  Prešov </a:t>
            </a:r>
            <a:r>
              <a:rPr b="0" lang="sk-SK" sz="2200" spc="-1" strike="noStrike">
                <a:solidFill>
                  <a:srgbClr val="4c1900"/>
                </a:solidFill>
                <a:latin typeface="Arial"/>
              </a:rPr>
              <a:t>	</a:t>
            </a:r>
            <a:r>
              <a:rPr b="0" lang="sk-SK" sz="2200" spc="-1" strike="noStrike">
                <a:solidFill>
                  <a:srgbClr val="4c1900"/>
                </a:solidFill>
                <a:latin typeface="Arial"/>
              </a:rPr>
              <a:t>	</a:t>
            </a:r>
            <a:r>
              <a:rPr b="0" lang="sk-SK" sz="2200" spc="-1" strike="noStrike">
                <a:solidFill>
                  <a:srgbClr val="4c1900"/>
                </a:solidFill>
                <a:latin typeface="Arial"/>
              </a:rPr>
              <a:t> www.tangram.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cc6633"/>
                </a:solidFill>
                <a:latin typeface="Times New Roman"/>
              </a:rPr>
              <a:t>Cieľ riešenia</a:t>
            </a:r>
            <a:endParaRPr b="0" lang="en-US" sz="4000" spc="-1" strike="noStrike">
              <a:solidFill>
                <a:srgbClr val="cc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5520" indent="-320760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4c1900"/>
                </a:solidFill>
                <a:latin typeface="Times New Roman"/>
              </a:rPr>
              <a:t>Centralizovaná adresná evidencia výdaja poskytovaných tovarov a poberateľov</a:t>
            </a: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  <a:p>
            <a:pPr marL="425520" indent="-320760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4c1900"/>
                </a:solidFill>
                <a:latin typeface="Times New Roman"/>
              </a:rPr>
              <a:t>Overovanie poberateľov prostredníctvom bezdotykových RFID kariet</a:t>
            </a: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  <a:p>
            <a:pPr marL="425520" indent="-320760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4c1900"/>
                </a:solidFill>
                <a:latin typeface="Times New Roman"/>
              </a:rPr>
              <a:t>Sledovanie čerpania pomocou poberateľských účtov spojených s kartami</a:t>
            </a: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  <a:p>
            <a:pPr marL="425520" indent="-320760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4c1900"/>
                </a:solidFill>
                <a:latin typeface="Times New Roman"/>
              </a:rPr>
              <a:t>Sledovanie stavu zásob a „cenotvorba“</a:t>
            </a: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cc6633"/>
                </a:solidFill>
                <a:latin typeface="Times New Roman"/>
              </a:rPr>
              <a:t>Sledovanie stavu zásob</a:t>
            </a:r>
            <a:endParaRPr b="0" lang="en-US" sz="4000" spc="-1" strike="noStrike">
              <a:solidFill>
                <a:srgbClr val="cc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5520" indent="-320760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4c1900"/>
                </a:solidFill>
                <a:latin typeface="Times New Roman"/>
              </a:rPr>
              <a:t>Zoznam poskytovaných tovarov a služieb</a:t>
            </a: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  <a:p>
            <a:pPr marL="425520" indent="-320760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4c1900"/>
                </a:solidFill>
                <a:latin typeface="Times New Roman"/>
              </a:rPr>
              <a:t>Príjem tovarov na stav zásob, evidencia dodávateľov</a:t>
            </a: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  <a:p>
            <a:pPr marL="425520" indent="-320760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4c1900"/>
                </a:solidFill>
                <a:latin typeface="Times New Roman"/>
              </a:rPr>
              <a:t>Stanovenie „predajnej“ ceny tovarov</a:t>
            </a: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  <a:p>
            <a:pPr marL="425520" indent="-320760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4c1900"/>
                </a:solidFill>
                <a:latin typeface="Times New Roman"/>
              </a:rPr>
              <a:t>Odpis vydaných tovarov zo stavu zásob</a:t>
            </a: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  <a:p>
            <a:pPr marL="425520" indent="-320760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4c1900"/>
                </a:solidFill>
                <a:latin typeface="Times New Roman"/>
              </a:rPr>
              <a:t>Inventúry, prehľady príjmov a výdajov</a:t>
            </a: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38040"/>
            <a:ext cx="9066240" cy="11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cc6633"/>
                </a:solidFill>
                <a:latin typeface="Times New Roman"/>
              </a:rPr>
              <a:t>Evidencia poberateľov</a:t>
            </a:r>
            <a:endParaRPr b="0" lang="en-US" sz="4000" spc="-1" strike="noStrike">
              <a:solidFill>
                <a:srgbClr val="cc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5520" indent="-320760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4c1900"/>
                </a:solidFill>
                <a:latin typeface="Times New Roman"/>
              </a:rPr>
              <a:t>Správa zoznamu poberateľov a im pridelených identifikačných kariet</a:t>
            </a: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  <a:p>
            <a:pPr marL="425520" indent="-320760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4c1900"/>
                </a:solidFill>
                <a:latin typeface="Times New Roman"/>
              </a:rPr>
              <a:t>Evidencia poberateľských účtov, nastavovanie kreditu podľa zadaných pravidiel, automatické zníženie  kreditu podľa odobratých tovarov</a:t>
            </a: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  <a:p>
            <a:pPr marL="425520" indent="-320760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4c1900"/>
                </a:solidFill>
                <a:latin typeface="Times New Roman"/>
              </a:rPr>
              <a:t>Identifikačné karty je možné používať opakovane pre nových poberateľov</a:t>
            </a: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  <a:p>
            <a:pPr marL="4269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4700b8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1240" y="303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cc6633"/>
                </a:solidFill>
                <a:latin typeface="Times New Roman"/>
              </a:rPr>
              <a:t>Technické vybavenie </a:t>
            </a:r>
            <a:endParaRPr b="0" lang="en-US" sz="4000" spc="-1" strike="noStrike">
              <a:solidFill>
                <a:srgbClr val="cc6633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800520" y="1746360"/>
            <a:ext cx="2786040" cy="2509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23960" y="4429080"/>
            <a:ext cx="1344600" cy="1190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7756560" y="2952720"/>
            <a:ext cx="1806480" cy="857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641520" y="2068560"/>
            <a:ext cx="906120" cy="928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23800" y="3068640"/>
            <a:ext cx="272412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4c1900"/>
                </a:solidFill>
                <a:latin typeface="Arial"/>
              </a:rPr>
              <a:t>Účtenková tlačiareň na tlač potvrdenky výd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5595840"/>
            <a:ext cx="2173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4c1900"/>
                </a:solidFill>
                <a:latin typeface="Arial"/>
              </a:rPr>
              <a:t>Tlač skladových  dokladov a prehľad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9720" y="1434960"/>
            <a:ext cx="3581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4c1900"/>
                </a:solidFill>
                <a:latin typeface="Arial"/>
              </a:rPr>
              <a:t>Doplnkové vybav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48360" y="1486080"/>
            <a:ext cx="3454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4c1900"/>
                </a:solidFill>
                <a:latin typeface="Arial"/>
              </a:rPr>
              <a:t>Základné vybav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1880" y="4095720"/>
            <a:ext cx="366732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4c1900"/>
                </a:solidFill>
                <a:latin typeface="Arial"/>
              </a:rPr>
              <a:t>Kancelársky počítač s OS Microsoft Window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4c1900"/>
                </a:solidFill>
                <a:latin typeface="Arial"/>
              </a:rPr>
              <a:t>klávesnica, myš, mon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4c1900"/>
                </a:solidFill>
                <a:latin typeface="Arial"/>
              </a:rPr>
              <a:t>Ako rovnocenné riešenie môže byť použitý note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40640" y="4044960"/>
            <a:ext cx="228600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4c1900"/>
                </a:solidFill>
                <a:latin typeface="Arial"/>
              </a:rPr>
              <a:t>Snímač bezdotykových identifikačných kar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338040"/>
            <a:ext cx="9066240" cy="11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400" spc="-1" strike="noStrike">
                <a:solidFill>
                  <a:srgbClr val="cc6633"/>
                </a:solidFill>
                <a:latin typeface="Times New Roman"/>
              </a:rPr>
              <a:t>PC pokladnica</a:t>
            </a:r>
            <a:endParaRPr b="0" lang="en-US" sz="4400" spc="-1" strike="noStrike">
              <a:solidFill>
                <a:srgbClr val="cc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0720" y="1767960"/>
            <a:ext cx="885024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600" spc="-1" strike="noStrike">
                <a:solidFill>
                  <a:srgbClr val="4c1900"/>
                </a:solidFill>
                <a:latin typeface="Times New Roman"/>
              </a:rPr>
              <a:t>Program PC kasa slúži na výdaj tovarov a evidenciu „platieb“ prostredníctvom kreditných čipových kariet. Vydaný tovar sa automaticky odpisuje zo stavu zásob.</a:t>
            </a:r>
            <a:endParaRPr b="0" lang="en-US" sz="2600" spc="-1" strike="noStrike">
              <a:solidFill>
                <a:srgbClr val="4700b8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600" spc="-1" strike="noStrike">
                <a:solidFill>
                  <a:srgbClr val="4c1900"/>
                </a:solidFill>
                <a:latin typeface="Times New Roman"/>
              </a:rPr>
              <a:t>Overovanie kreditu čipových kariet sa vykonáva on-line pri výdaji. Autorizačný program pridelí platbe jedinečné číslo transakcie. Pokladnica uloží záznam o „platbe“ do databázy a odošle potvrdenie o vykonaní platby autorizačnému serveru. Všetky vykonané platby sa ukladajú v  databáze účtov. Neskoršia kontrola umožňuje spätne kontrolovať záznamy o platbách.</a:t>
            </a:r>
            <a:endParaRPr b="0" lang="en-US" sz="2600" spc="-1" strike="noStrike">
              <a:solidFill>
                <a:srgbClr val="4700b8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3280" y="338040"/>
            <a:ext cx="9066240" cy="11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400" spc="-1" strike="noStrike">
                <a:solidFill>
                  <a:srgbClr val="cc6633"/>
                </a:solidFill>
                <a:latin typeface="Times New Roman"/>
              </a:rPr>
              <a:t>Obrazovka pc pokladnice</a:t>
            </a:r>
            <a:endParaRPr b="0" lang="en-US" sz="4400" spc="-1" strike="noStrike">
              <a:solidFill>
                <a:srgbClr val="cc6633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25480" y="1380960"/>
            <a:ext cx="8339040" cy="5753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14:06:01Z</dcterms:created>
  <dc:creator>Tng </dc:creator>
  <dc:description>Všeobecné uvedenie nového produktu zohľadňujúce zákaznícke želania</dc:description>
  <dc:language>en-US</dc:language>
  <cp:lastModifiedBy/>
  <cp:lastPrinted>2010-06-02T14:44:56Z</cp:lastPrinted>
  <dcterms:modified xsi:type="dcterms:W3CDTF">2013-11-04T10:30:11Z</dcterms:modified>
  <cp:revision>43</cp:revision>
  <dc:subject/>
  <dc:title>Uvedenie nového produktu</dc:title>
</cp:coreProperties>
</file>