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ngram.sk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ngram.sk/" TargetMode="External"/><Relationship Id="rId3" Type="http://schemas.openxmlformats.org/officeDocument/2006/relationships/hyperlink" Target="mailto:tangram@tangram.sk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10080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4c1900"/>
                </a:solidFill>
                <a:latin typeface="Arial"/>
              </a:rPr>
              <a:t>Programové vybavenie Tangram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2000" y="936360"/>
            <a:ext cx="8477280" cy="62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4c1900"/>
                </a:solidFill>
                <a:latin typeface="Arial"/>
              </a:rPr>
              <a:t>… </a:t>
            </a:r>
            <a:r>
              <a:rPr b="1" i="1" lang="en-GB" sz="3200" spc="-1" strike="noStrike">
                <a:solidFill>
                  <a:srgbClr val="4c1900"/>
                </a:solidFill>
                <a:latin typeface="Arial"/>
              </a:rPr>
              <a:t>aby ste si nelámali hlavu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8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9966"/>
                </a:solidFill>
                <a:latin typeface="Arial"/>
              </a:rPr>
              <a:t>Tangram</a:t>
            </a:r>
            <a:r>
              <a:rPr b="0" lang="en-GB" sz="1800" spc="-1" strike="noStrike">
                <a:solidFill>
                  <a:srgbClr val="ff9966"/>
                </a:solidFill>
                <a:latin typeface="Arial"/>
              </a:rPr>
              <a:t> - najstarší známy mechanický hlavolam, štvorec rozdelený </a:t>
            </a:r>
            <a:r>
              <a:rPr b="0" lang="en-GB" sz="1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9966"/>
                </a:solidFill>
                <a:latin typeface="Arial"/>
              </a:rPr>
              <a:t>na 7 častí, z ktorých je možné zložiť stovky najrôznejších tvarov.</a:t>
            </a:r>
            <a:endParaRPr b="0" lang="en-US" sz="1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4c1900"/>
                </a:solidFill>
                <a:latin typeface="Times New Roman"/>
              </a:rPr>
              <a:t>Tangram a.s., 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tangram.sk</a:t>
            </a:r>
            <a:r>
              <a:rPr b="0" lang="en-GB" sz="2800" spc="-1" strike="noStrike">
                <a:solidFill>
                  <a:srgbClr val="4c1900"/>
                </a:solidFill>
                <a:latin typeface="Times New Roman"/>
              </a:rPr>
              <a:t>,  tangram@tangram.sk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32240" y="1260360"/>
            <a:ext cx="5568840" cy="29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434520" y="179280"/>
            <a:ext cx="46656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angram je na trhu od roku 1997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47880" y="1620720"/>
            <a:ext cx="877248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1989 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vývoj prvých databázových aplikácií pre operačný systém     MS-DOS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1997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začal vývoj úplne nového systému 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Tangram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pre prostredie OS 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Microsoft Windows, na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technológii klient – server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polupráca s databázovými servermi Oracle, Microsoft a Gupta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informačný systém Tangram EOS je navrhnutý pre 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spracovanie obchodnej a ekonomickej agendy v stredných a väčších firmách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Tangram EOS tvorí niekoľko aplikácií, pracujúcich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 vysokým výkonom nielen na jednom PC, ale hlavne v sieti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umožňuje nekomplikované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on-line prepojenie</a:t>
            </a: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pobočiek s centrálou, export údajov do iných systémov (dbf, csv, xml)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poskytuje vysokú bezpečnosť spracovania údajov a ochranu dát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1042920" indent="-21600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jednoduchá obsluha  = nízke náklady na zaškolenie pracovník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duktový rad systémov Tangra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611360"/>
            <a:ext cx="9001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Ekonomický systém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tvoria ho vzájomne spolupracujúce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moduly: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účtovníctvo, financie, fakturácia, pohľadávky a záväzky, dph a majetok 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účtovanie v cudzích menách, automatické výpočty kurzových rozdielov, sledovanie salda v rôznych menách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účtovné výkazy v rôznych jazykoch (v aktuálnej verzii angličtina, nemčina, slovenčina, taliančina)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podpora systémov pre elektronické bankovníctvo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prepracovaná evidencia majetku (rôzne spôsoby odpisovania majetku)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možnosť definovať hospodársky rok (fiškálne účtovné  obdobie)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duktový rad systémov Tangra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7640" y="1611360"/>
            <a:ext cx="8802720" cy="53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Elektronický dochádzkový systém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zber a 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automatizované spracovanie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údajov o dochádzke, export údajov do mzdových systémov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spracovanie pevnej aj pružnej pracovnej doby, nočných             a nepravidelných zmien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internetový portál na sledovanie okamžitej prítomnosti     pracovník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dochádzkové terminály externé alebo PC terminály,            bezkontaktné ID kart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Systém kontroly vstupov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otváranie dverí s možnosťou rozsiahlej definície prístup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Kreditný stravovací systé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4c19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objednávkový stravovací systém s možnosťou hotovostnej alebo bezhotovostnej platb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duktový rad systémov Tangra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440000"/>
            <a:ext cx="88203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Obchodný systém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Veľkoobchod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- pokrýva činnosti obchodného a výrobného skladu: príjem, výdaj, predaj, prevod, inventúra, objednávky, rezervácie 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neobmedzený počet skladov, tovarových skupín a cenových hladín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akciové ceny, firemné ceny, dohodnuté nákupné ceny, ceny         v cudzích menách, história cien, generátor čiarových kódov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možnosť pripojenia veľkého počtu rôznych hw zariadení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Maloobchod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– určený na riadenie siete maloobchodných predajní, vybavených pc pokladnicami alebo registračnými pokladnicami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automatizované ovládanie pokladníc na diaľku priamo z centrál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Mobile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– zber elektronických objednávok u odberateľov a priamy predaj s možnosťou hotovostnej platby (samostatná prezentácia)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100" spc="-1" strike="noStrike">
                <a:solidFill>
                  <a:srgbClr val="4c1900"/>
                </a:solidFill>
                <a:latin typeface="Arial"/>
              </a:rPr>
              <a:t>Collector</a:t>
            </a:r>
            <a:r>
              <a:rPr b="0" lang="en-GB" sz="2100" spc="-1" strike="noStrike">
                <a:solidFill>
                  <a:srgbClr val="4c1900"/>
                </a:solidFill>
                <a:latin typeface="Arial"/>
              </a:rPr>
              <a:t> – použitie prenosných dátových terminálov v sklade (maloobchod aj veľkoobchod) na príjem, predaj a inventúry</a:t>
            </a:r>
            <a:endParaRPr b="0" lang="en-US" sz="21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60" y="1260360"/>
            <a:ext cx="1957320" cy="521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tázk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611360"/>
            <a:ext cx="8820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ff9966"/>
                </a:solidFill>
                <a:latin typeface="Arial"/>
              </a:rPr>
              <a:t>Informácie o produktoch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tangram.sk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ff9966"/>
                </a:solidFill>
                <a:latin typeface="Arial"/>
              </a:rPr>
              <a:t>Kontakt</a:t>
            </a:r>
            <a:r>
              <a:rPr b="1" lang="en-GB" sz="2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email:</a:t>
            </a: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angram@tangram.sk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tel.:</a:t>
            </a: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051 77 33 487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fax:</a:t>
            </a: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4c1900"/>
                </a:solidFill>
                <a:latin typeface="Arial"/>
              </a:rPr>
              <a:t>051 75 95 451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2800" spc="-1" strike="noStrike">
                <a:solidFill>
                  <a:srgbClr val="4c1900"/>
                </a:solidFill>
                <a:latin typeface="Arial"/>
              </a:rPr>
              <a:t>Tangram a.s., Švábska 4, 080 05  Prešov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9434520" y="181080"/>
            <a:ext cx="466560" cy="46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gram Tangram</dc:creator>
  <dc:description>Predstavenie vývoja a alternatív, doporučenie jednej alebo viacerých stratégií</dc:description>
  <dc:language>en-US</dc:language>
  <cp:lastModifiedBy>Tangram Tangram</cp:lastModifiedBy>
  <cp:revision>0</cp:revision>
  <dc:subject/>
  <dc:title/>
</cp:coreProperties>
</file>