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i="1" lang="en-US" sz="4000" spc="-1" strike="noStrike">
                <a:solidFill>
                  <a:srgbClr val="4b1e20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to sú poznámky pre prvý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93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9880" y="1440000"/>
            <a:ext cx="93585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880" y="4237560"/>
            <a:ext cx="93585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93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9880" y="1440000"/>
            <a:ext cx="45669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95440" y="1440000"/>
            <a:ext cx="45669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99880" y="4237560"/>
            <a:ext cx="45669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95440" y="4237560"/>
            <a:ext cx="45669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93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9880" y="1440000"/>
            <a:ext cx="301320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4280" y="1440000"/>
            <a:ext cx="301320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28320" y="1440000"/>
            <a:ext cx="301320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99880" y="4237560"/>
            <a:ext cx="301320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4280" y="4237560"/>
            <a:ext cx="301320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28320" y="4237560"/>
            <a:ext cx="301320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93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99880" y="1440000"/>
            <a:ext cx="935856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93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9880" y="1440000"/>
            <a:ext cx="935856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93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9880" y="1440000"/>
            <a:ext cx="456696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5440" y="1440000"/>
            <a:ext cx="456696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93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60000" y="539640"/>
            <a:ext cx="93582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93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9880" y="1440000"/>
            <a:ext cx="45669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5440" y="1440000"/>
            <a:ext cx="456696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9880" y="4237560"/>
            <a:ext cx="45669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93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9880" y="1440000"/>
            <a:ext cx="456696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5440" y="1440000"/>
            <a:ext cx="45669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95440" y="4237560"/>
            <a:ext cx="45669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93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9880" y="1440000"/>
            <a:ext cx="45669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5440" y="1440000"/>
            <a:ext cx="45669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9880" y="4237560"/>
            <a:ext cx="935856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137"/>
              </a:spcBef>
              <a:buNone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93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i="1" lang="en-US" sz="4000" spc="-1" strike="noStrike">
                <a:solidFill>
                  <a:srgbClr val="4b1e2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9880" y="1440000"/>
            <a:ext cx="935856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75000"/>
              <a:buFont typeface="Symbol" charset="2"/>
              <a:buChar char="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75000"/>
              <a:buFont typeface="Symbol" charset="2"/>
              <a:buChar char="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7077240"/>
            <a:ext cx="9720360" cy="96840"/>
          </a:xfrm>
          <a:prstGeom prst="roundRect">
            <a:avLst>
              <a:gd name="adj" fmla="val 1667"/>
            </a:avLst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039760" y="7289640"/>
            <a:ext cx="8040960" cy="96840"/>
          </a:xfrm>
          <a:prstGeom prst="roundRect">
            <a:avLst>
              <a:gd name="adj" fmla="val 1667"/>
            </a:avLst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74680" y="7153200"/>
            <a:ext cx="1800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  <a:tab algn="l" pos="8610480"/>
              </a:tabLst>
            </a:pPr>
            <a:r>
              <a:rPr b="1" lang="en-GB" sz="1600" spc="-1" strike="noStrike">
                <a:solidFill>
                  <a:srgbClr val="4b1e20"/>
                </a:solidFill>
                <a:latin typeface="Arial"/>
              </a:rPr>
              <a:t>www.tangram.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9760" y="36360"/>
            <a:ext cx="3240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</a:tabLst>
            </a:pPr>
            <a:r>
              <a:rPr b="1" lang="en-GB" sz="1600" spc="-1" strike="noStrike">
                <a:solidFill>
                  <a:srgbClr val="4b1e20"/>
                </a:solidFill>
                <a:latin typeface="Arial"/>
              </a:rPr>
              <a:t>Mobilný distribučný systé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0360" y="419040"/>
            <a:ext cx="9720360" cy="96840"/>
          </a:xfrm>
          <a:prstGeom prst="roundRect">
            <a:avLst>
              <a:gd name="adj" fmla="val 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19400" y="203040"/>
            <a:ext cx="6961320" cy="96840"/>
          </a:xfrm>
          <a:prstGeom prst="roundRect">
            <a:avLst>
              <a:gd name="adj" fmla="val 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6719760" y="6899400"/>
            <a:ext cx="3060720" cy="539640"/>
            <a:chOff x="6719760" y="6899400"/>
            <a:chExt cx="3060720" cy="539640"/>
          </a:xfrm>
        </p:grpSpPr>
        <p:sp>
          <p:nvSpPr>
            <p:cNvPr id="9" name=""/>
            <p:cNvSpPr/>
            <p:nvPr/>
          </p:nvSpPr>
          <p:spPr>
            <a:xfrm>
              <a:off x="6719760" y="6899400"/>
              <a:ext cx="3060720" cy="539640"/>
            </a:xfrm>
            <a:prstGeom prst="roundRect">
              <a:avLst>
                <a:gd name="adj" fmla="val 292"/>
              </a:avLst>
            </a:prstGeom>
            <a:solidFill>
              <a:srgbClr val="ff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2"/>
            <a:stretch/>
          </p:blipFill>
          <p:spPr>
            <a:xfrm>
              <a:off x="6799320" y="69595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3"/>
            <a:stretch/>
          </p:blipFill>
          <p:spPr>
            <a:xfrm>
              <a:off x="7280280" y="6959520"/>
              <a:ext cx="2441520" cy="4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"/>
          <p:cNvSpPr/>
          <p:nvPr/>
        </p:nvSpPr>
        <p:spPr>
          <a:xfrm>
            <a:off x="3060720" y="179280"/>
            <a:ext cx="7020000" cy="96840"/>
          </a:xfrm>
          <a:prstGeom prst="roundRect">
            <a:avLst>
              <a:gd name="adj" fmla="val 1667"/>
            </a:avLst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539280"/>
            <a:ext cx="93600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GB" sz="4000" spc="-1" strike="noStrike">
                <a:solidFill>
                  <a:srgbClr val="4b1e20"/>
                </a:solidFill>
                <a:latin typeface="Arial"/>
              </a:rPr>
              <a:t>Mobilný distribučný systém</a:t>
            </a: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98600" y="1440000"/>
            <a:ext cx="7540560" cy="502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539280"/>
            <a:ext cx="93600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GB" sz="4000" spc="-1" strike="noStrike">
                <a:solidFill>
                  <a:srgbClr val="4b1e20"/>
                </a:solidFill>
                <a:latin typeface="Arial"/>
              </a:rPr>
              <a:t>Požiadavky na systém</a:t>
            </a: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9880" y="1440000"/>
            <a:ext cx="9360000" cy="53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kcionali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zšírenie systému Tangram do terén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ystavenie a okamžitá tlač dodacích listov a hotovostných doklado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ebežná kontrola stavu zás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á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resár firiem, individuálne obchodné podmienk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mpletný cenník, cenové skupiny, história ci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nositeľnos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ôzne typy zariadení: PDA, dataterminály, tablet 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ôzne platformy: Windows-Mobile, Windows-CE, Windows-X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stupnos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-line alebo Off-line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539280"/>
            <a:ext cx="93600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GB" sz="4000" spc="-1" strike="noStrike">
                <a:solidFill>
                  <a:srgbClr val="4b1e20"/>
                </a:solidFill>
                <a:latin typeface="Arial"/>
              </a:rPr>
              <a:t>Hardware</a:t>
            </a: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9880" y="1440000"/>
            <a:ext cx="936000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1096920"/>
            <a:ext cx="1381320" cy="2443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59280" y="1260360"/>
            <a:ext cx="1798560" cy="216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519280" y="4322880"/>
            <a:ext cx="3300480" cy="2157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38920" y="3946680"/>
            <a:ext cx="2639880" cy="277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flipV="1">
            <a:off x="6178320" y="3419280"/>
            <a:ext cx="1143000" cy="10825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800600" y="3419280"/>
            <a:ext cx="839880" cy="10220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539280"/>
            <a:ext cx="93600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GB" sz="4000" spc="-1" strike="noStrike">
                <a:solidFill>
                  <a:srgbClr val="4b1e20"/>
                </a:solidFill>
                <a:latin typeface="Arial"/>
              </a:rPr>
              <a:t>Software</a:t>
            </a: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66720" y="2219400"/>
            <a:ext cx="7134480" cy="31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360" y="539280"/>
            <a:ext cx="93600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GB" sz="4000" spc="-1" strike="noStrike">
                <a:solidFill>
                  <a:srgbClr val="4b1e20"/>
                </a:solidFill>
                <a:latin typeface="Arial"/>
              </a:rPr>
              <a:t>Pre koho je systém určený ?</a:t>
            </a: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9880" y="1440000"/>
            <a:ext cx="9360000" cy="53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bilný preda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daj tovaru bez predchádzajúcej objednávk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zvoz tovar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zvoz tovaru s vopred pripravenými dokladm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chodný zástup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števa zákazní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hodnutie objednávk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ytlačenie objednávk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doslanie objednávky na spracovan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360" y="577440"/>
            <a:ext cx="936000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GB" sz="4000" spc="-1" strike="noStrike">
                <a:solidFill>
                  <a:srgbClr val="4b1e20"/>
                </a:solidFill>
                <a:latin typeface="Arial"/>
              </a:rPr>
              <a:t>Funkcie systému</a:t>
            </a: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9880" y="1439640"/>
            <a:ext cx="936000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port dá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ort z databázy Tangram: cenník tovaru, adresár firiem, stav zás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daj tovar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ýber zákazníka z adresára, nastavenie cenovej skupi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ýber tovaro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lač dodacieho listu alebo hotovostného dokla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dnáv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ýber zákazníka z adresára, nastavenie cenovej skupi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ýber tovaro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lač objednávky, možnosť okamžitého odoslania cez GSM sie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iverzálny dokl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mocné operácie: príjem, výdaj, inventú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ort dá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ort do databázy Tangram EOS: dokla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539280"/>
            <a:ext cx="93600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GB" sz="4000" spc="-1" strike="noStrike">
                <a:solidFill>
                  <a:srgbClr val="4b1e20"/>
                </a:solidFill>
                <a:latin typeface="Arial"/>
              </a:rPr>
              <a:t>Používateľské rozhranie</a:t>
            </a: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9520" y="1440000"/>
            <a:ext cx="2000160" cy="311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129120" y="1822320"/>
            <a:ext cx="2390760" cy="243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099040" y="4672080"/>
            <a:ext cx="2379600" cy="2108160"/>
          </a:xfrm>
          <a:prstGeom prst="rect">
            <a:avLst/>
          </a:prstGeom>
          <a:ln w="18000">
            <a:solidFill>
              <a:srgbClr val="000000"/>
            </a:solidFill>
            <a:round/>
          </a:ln>
          <a:effectLst>
            <a:outerShdw dist="76367" dir="2700000" blurRad="0" rotWithShape="0">
              <a:srgbClr val="c0c0c0"/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59520" y="1258920"/>
            <a:ext cx="1390680" cy="426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800360" y="3719520"/>
            <a:ext cx="2047680" cy="186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360" y="577440"/>
            <a:ext cx="936000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GB" sz="4000" spc="-1" strike="noStrike">
                <a:solidFill>
                  <a:srgbClr val="4b1e20"/>
                </a:solidFill>
                <a:latin typeface="Arial"/>
              </a:rPr>
              <a:t>Prínos v praxi</a:t>
            </a:r>
            <a:r>
              <a:rPr b="1" i="1" lang="en-GB" sz="4000" spc="-1" strike="noStrike">
                <a:solidFill>
                  <a:srgbClr val="4b1e20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9880" y="1439640"/>
            <a:ext cx="936000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Zníženie prácnost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dstránenie ručného vypisovania dodacieho list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dstránenie manuálneho vkladania dodacieho listu do systém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Zníženie chybovost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dstránenie chýb pri výbere správnej ce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dstránenie chýb pri vkladaní dodacích listov do systém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níženie počtu reklamáci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137"/>
              </a:spcBef>
              <a:buClr>
                <a:srgbClr val="e77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Zrýchlenie odozvy voči zákazník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ýchle zostavenie a vytlačenie dokla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hľad o stave zás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dnávky je možné odoslať ihneď a vybaviť v ten istý de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79760" y="900000"/>
            <a:ext cx="3075120" cy="5484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539280"/>
            <a:ext cx="93600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GB" sz="4000" spc="-1" strike="noStrike">
                <a:solidFill>
                  <a:srgbClr val="4b1e20"/>
                </a:solidFill>
                <a:latin typeface="Arial"/>
              </a:rPr>
              <a:t>Ďakujeme za pozornosť</a:t>
            </a:r>
            <a:endParaRPr b="1" i="1" lang="en-US" sz="4000" spc="-1" strike="noStrike">
              <a:solidFill>
                <a:srgbClr val="4b1e2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9880" y="1440000"/>
            <a:ext cx="936000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0720" y="1440000"/>
            <a:ext cx="1379520" cy="2441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20000" y="1735200"/>
            <a:ext cx="1484280" cy="2405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879560" y="4379760"/>
            <a:ext cx="2260800" cy="2260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5999040" y="4319640"/>
            <a:ext cx="2492640" cy="249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van Fedorko</dc:creator>
  <dc:description/>
  <dc:language>en-US</dc:language>
  <cp:lastModifiedBy>Ivan Fedorko</cp:lastModifiedBy>
  <cp:revision>0</cp:revision>
  <dc:subject/>
  <dc:title/>
</cp:coreProperties>
</file>