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982-B6B1-4257-805A-D359CAD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B0F-5A6A-44C9-B34D-87436194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170-6941-46C7-971B-B51A61C7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890-2BFC-465F-B467-B48C0ECC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5E6-CDD2-4791-8271-A5F0BE85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ADC-6536-4698-877A-0327848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058-D784-405E-80D6-2762F5F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6F2-43D5-410E-B5C6-36C6A03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154-B62F-4277-90C0-3191461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5FE-A0B3-4F34-9249-58D57F7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CF0-EDDF-430F-AC2E-D07256F0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FE7-CE3F-4E48-8BAC-7FE1F4A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B1F1-1CE9-4E05-A7BF-837A04BD3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5680" y="1440000"/>
            <a:ext cx="2575080" cy="467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800360" y="1620360"/>
            <a:ext cx="7920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c1900"/>
                </a:solidFill>
                <a:latin typeface="Arial"/>
              </a:rPr>
              <a:t>Praktické nasadenie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c1900"/>
                </a:solidFill>
                <a:latin typeface="Arial"/>
              </a:rPr>
              <a:t>obchodného systému Tangram 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c1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 algn="ctr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c1900"/>
                </a:solidFill>
                <a:latin typeface="Arial"/>
              </a:rPr>
              <a:t>systému riadeného skladu Rubi.com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ff6633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360000" y="179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60360" y="198360"/>
            <a:ext cx="108108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326520"/>
            <a:ext cx="79200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harakteristika zákazníka a jeho</a:t>
            </a:r>
            <a:r>
              <a:rPr b="1" i="1" lang="en-GB" sz="40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žiadavky</a:t>
            </a:r>
            <a:r>
              <a:rPr b="1" i="1" lang="en-GB" sz="4000" spc="-1" strike="noStrike">
                <a:solidFill>
                  <a:srgbClr val="ff6633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7880" y="162036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Zákazník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tredne veľká firma, centrála  s dvoma výrobnými závodmi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a jednou distribučnou pobočkou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realizuje výrobu a zároveň aj distribúciu vlastných výrobkov do obchodných reťazcov, veľkoobchodov aj maloobchod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Požiadavk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okrem štandardnej skladovej evidencie požaduje u každej skladovej položky sledovať jej umiestnenie v sklade, číslo šarže, SSCC kód palet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ieto údaje evidovať pri naskladnení, prevode a výdaji skladových položiek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pätné zistenie šarže a čísla palety pri reklamácii tovaru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Návrh riešen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7880" y="161892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Skladová evidencia – Obchodný systém Tangram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evidencia obchodných partnerov, obchodné podmienk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kladová evidencia, cenotvorba, inventúr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ledovanie prijatých a vydaných objednávok, predaj výrobk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výrobné kalkulácie, odpis materiálu, naskladnenie výrobk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lač SSCC paletových štítkov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Riadenie skladu – WMS Rubi.com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evidencia SSCC čísel paliet pri pohybe skladových položiek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export údajov o príjme skladových položiek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import údajov na prevod a vyskaldnenie položiek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00360" y="1619280"/>
            <a:ext cx="8280360" cy="507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aktická realizác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realizovaného riešen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7880" y="162036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Spojenie Tangram EOS a Rubi.com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kompletná evidencia pohybu položky (umiestnenia, šarže)           v sklade od príjmu cez výdaj do výroby, naskladnenie výroby až po expedíciu a predaj výrobk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automatický prenos údajov o príjme tovaru z Rubi.com do Tangram, automatický prenos údajov pre vyskladňovanie výrobkov z Tangram do Rubi.com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vylúčením ľudského faktora pri zaznamenaní údajov o výrobku snímaním čiarových kódov výrobkov a kódov SSCC sa zvýšila rýchlosť a bezpečnosť zadávaných údaj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repojenie šarží materiálov vstupujúcich do výroby so šaržami hotových výrobkov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možnosť spätného zistenia šarží materiálov v konkrétnej šarži výrobku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é sw a hw komponent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7880" y="162036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Tangram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erver HP ML 130 + Oracle 10g SE One, záložný zdroj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racovné stanice – kancelárske pc, MS Windows XP, záložný zdroj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ieťová infraštruktúra 100Mbit LAN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laserová tlačiareň sieťová, personálne laserové tlačiarne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lačiareň paletových štítkov Zebra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Rubi.com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erver HP ML 110 + MS SQL, záložný zdroj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dátové terminály Symbol MC 3090, nabíjačky, náhradné akumulátory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ieťová infraštruktúra pre WiFi prepojenie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tázk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1081080" cy="52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7880" y="1620360"/>
            <a:ext cx="87724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Otázky k predvedenému riešeniu ?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35892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lvl="4" marL="1079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                                               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Ďakujem za pozornosť.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lvl="4" marL="1079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lvl="4" marL="1079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lvl="4" marL="1079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Tangram a.s. , Švábska 4, 080 05  Prešov, www.tangram.sk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gram Tangram</dc:creator>
  <dc:description/>
  <dc:language>en-US</dc:language>
  <cp:lastModifiedBy/>
  <cp:revision>0</cp:revision>
  <dc:subject/>
  <dc:title/>
</cp:coreProperties>
</file>